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B12-1828-4934-B77E-70A1887D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FD2-9411-4F4D-B410-54306765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42CCDC-BF37-42A6-B3F3-8680DA4C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844652-C657-4513-BD6F-71F47574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FBB9ED-BE47-4C75-8B6D-5F697BED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CB90E1-3546-40A1-9492-E54E56D7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6CE1A7-062F-4BAD-BCFE-C1F73C4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09DCC6-FF1E-4574-8471-B317FA74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FFF4FB-55FC-4166-9562-BB408B28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8B5917-BC6A-4E54-A8AA-61675B25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8A2E22-F672-428F-A1D4-98204B39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AE9-6601-4DA9-B958-73AF4584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1BC-1599-4F9F-BD1E-5F63F9FB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B8033-D371-42ED-9733-EE00676B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CFEA4-4EAF-4CA1-AA56-9E10A1B5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DE72A-4855-4AA8-B325-A6DBB8B5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B9D00-1582-413D-AE4C-7B538101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C023F-0F27-421C-A4BF-A7B0BB6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CA28A-4DF4-47B8-A9B2-4F9451CC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AF72F-F6C8-40E4-8240-F3D0B626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8FD-8641-42EF-BB3A-854100EE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62ACB-7E3F-46C2-92B4-DE61A768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AAAA3-CA2D-494F-8AF7-6566B6FE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75D86-2791-4C49-BCEB-26FCE955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80D0A-8789-4005-B94E-5859A08A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16ECE-7A99-4904-9FDC-D5EA6FFF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2E66-F847-4BE2-AA22-13A3E1DF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56CD-CF4C-4159-ACA1-902CB6AE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BBB0-EA2C-4C50-BE36-B07305C1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8E5A-8527-416A-AAD1-2EC36711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293B-859D-4CED-B206-3A7D5FB6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405-2DCA-49C2-93BB-50ABAF10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7DB2D-8553-4FCF-A44B-C7596BA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1934-222A-485E-88DF-E97107B8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33C3-C9BF-4FC2-84A3-68D59AF6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C2B5-8F6A-4171-A857-245DE51E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AFCA-D4E9-4801-B988-CE88DDE9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17EA-AB17-4982-809D-5721B069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6A9C-66C5-4DE7-8550-0B6A6972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0261F-6243-4A67-90E6-D39DFE9F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9FA02-9A9C-488E-8679-49C3145D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9BA0D2-371D-411D-ABDB-C9EEAFC9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A37-D2D4-41B4-B8C1-EBDB340D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509F4-4B51-402B-A992-6A9B8B4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0D1A9-A590-4F3A-9FA5-4BD2C17E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DA0CF-057A-4D83-B94D-30982269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B3BE4-B9B5-43C8-9A74-1E167CD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0C9B4F-BCAC-4DC1-B7FD-DF4956D8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2711E-A814-4ADF-ACAE-F1971308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21CE4-01C0-4DA4-92B5-4048F155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99599-C962-4D25-A2F7-254E4A39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A14F6-48B6-482B-8DB8-EF5D4513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9229-D77E-4FBC-B768-40F5F753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523-9E6A-4046-89C8-42697A70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4B6FB-369A-4419-A38A-ADCDFDFF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A7535-308F-4B09-99B7-374393F2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BC731-362F-45F3-A1AC-0888E71A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CE2F9-D083-4C3C-8C59-D45B3A03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0D9A-A659-4210-9E18-08CC67A0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342A8-090F-434C-BEB2-426674EC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2541F-ED38-4C81-AE21-04015F5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E882-F0A7-40D7-B7E0-264A187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31040-BE07-4641-9368-F25C0142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6C30-817E-47F4-85F7-3EE6DC06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785-0376-4FFC-81F2-02419DF1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7826-6D3A-49CA-954F-D5F4E570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44F9A-3878-41AC-AD04-D9F4B1F2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B1DDC-803E-49F6-ACCC-FB051DB9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9F7EB-0EB4-440E-8BC5-8F6B0109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4B6A-BF17-43AC-8B29-FD8C26B3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1C3D5-B399-4D5E-B273-9126E6F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B6DC1-8C20-4AA1-B50C-3D9D8778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5D9CC-D8AE-4A19-A12F-03283C63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15A85-F349-459F-B029-5F173E19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EFC8B-8821-4726-B178-1A5990C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E23-C2F3-45FA-82A8-CAE3CF07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EA4F7-253A-4DAA-9363-306F672F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58DA-7C7E-4552-B9B6-E795E14B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C0B71-6630-46E0-828A-A0A34533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0C5F8-58CE-405D-B474-A61E89DB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84F54-88F0-4378-AE6C-2E2C9B69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A4B1F-62FE-4574-B93D-E79856AB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37E9-B7EC-4573-ACE2-0F27E084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A3025-5E44-406B-BAAC-E78A23C6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5424-90AE-46E3-ABD6-14E8CDB0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25DB-37CF-4BD0-A292-249D5763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2ED-BC32-4C8B-9E27-C5BB4B5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6311C-B7B2-4512-BCED-19EBCEE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C27C4-3406-4B71-8E14-79BDDBF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2723F-547B-42FA-8B5A-F0F6533E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1A658-0FEB-4104-AAF2-1E4F320E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1B4A6-508E-41B3-9DD1-9F66C6B4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DDAF7-3CBB-490C-B148-24831EFC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1D817-A183-4F06-A088-C0490064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E4E94B-80DA-4E0E-AAE6-EC93B594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511B72-F28C-48B9-A883-E491EAF4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651EDE-FE32-4004-8E70-DEC4191A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1B9-070A-4DC1-846F-FD3E3E4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D9DB8-CCFF-46A0-9987-7D3EE575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50CA67-2DCC-43CF-B607-937F97A6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D7B1DE-949D-4BB8-B712-0A118C9B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626DB3-3C4E-4D6C-BF9C-4B986FC8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BF2A30-7C48-49A7-ADB2-72D795E6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064072-51F3-4785-993D-881254A1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B2E213-D3B6-409D-A8EC-D84AAE92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3B71D-419E-4A4A-96A8-F5B6BE2C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7D818B-68C5-47A5-8BB8-DCCA00DD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CABC77-7D54-4577-BA79-7FEA6929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EA49-0D6F-40AF-941A-98CFBA343A4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C1B6-DF99-4945-899B-CB05C5A65BA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EF97-6088-4318-B4C0-43703D4FFEB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633B-75CE-458A-A52A-0B91AAA7981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C3D8-981D-455D-B0AC-720FE92E60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8D9F-D20A-423A-A154-AB825083A47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D541-696C-4129-9E3F-932E982553E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DB02-DB96-4B54-A978-8B785A1A339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2E53-9229-422E-83FE-EE4AB3EB365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352320" y="2819520"/>
            <a:ext cx="5340600" cy="4038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orms sweep  the United States-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59 Tornado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46 Deaths Tot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,500 injured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11 Billion damag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39 dead in Alabama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3" descr="b'ham tornado[6].jpg"/>
          <p:cNvPicPr/>
          <p:nvPr/>
        </p:nvPicPr>
        <p:blipFill>
          <a:blip r:embed="rId2"/>
          <a:stretch/>
        </p:blipFill>
        <p:spPr>
          <a:xfrm>
            <a:off x="304920" y="2743200"/>
            <a:ext cx="2895480" cy="396252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457200" y="6858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labama-Natural Disasters by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Ossie Ware Mitchell Middle Schoo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Birmingham, Alabama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" descr="Birmingham-Tornado-April-27-2011.png"/>
          <p:cNvPicPr/>
          <p:nvPr/>
        </p:nvPicPr>
        <p:blipFill>
          <a:blip r:embed="rId1"/>
          <a:stretch/>
        </p:blipFill>
        <p:spPr>
          <a:xfrm>
            <a:off x="495360" y="380880"/>
            <a:ext cx="8051760" cy="60199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al april tornado.jpg"/>
          <p:cNvPicPr/>
          <p:nvPr/>
        </p:nvPicPr>
        <p:blipFill>
          <a:blip r:embed="rId1"/>
          <a:stretch/>
        </p:blipFill>
        <p:spPr>
          <a:xfrm>
            <a:off x="914400" y="533520"/>
            <a:ext cx="7434360" cy="55674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" descr="alTuscaloosa-Alabama1.jpg"/>
          <p:cNvPicPr/>
          <p:nvPr/>
        </p:nvPicPr>
        <p:blipFill>
          <a:blip r:embed="rId1"/>
          <a:stretch/>
        </p:blipFill>
        <p:spPr>
          <a:xfrm>
            <a:off x="457200" y="685800"/>
            <a:ext cx="8255160" cy="52578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al storm survivors.jpg"/>
          <p:cNvPicPr/>
          <p:nvPr/>
        </p:nvPicPr>
        <p:blipFill>
          <a:blip r:embed="rId1"/>
          <a:stretch/>
        </p:blipFill>
        <p:spPr>
          <a:xfrm>
            <a:off x="762120" y="1066680"/>
            <a:ext cx="7924680" cy="47865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" descr="birmingham TORNADO.jpg"/>
          <p:cNvPicPr/>
          <p:nvPr/>
        </p:nvPicPr>
        <p:blipFill>
          <a:blip r:embed="rId1"/>
          <a:stretch/>
        </p:blipFill>
        <p:spPr>
          <a:xfrm>
            <a:off x="533520" y="5335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bham after tornado_44.jpg"/>
          <p:cNvPicPr/>
          <p:nvPr/>
        </p:nvPicPr>
        <p:blipFill>
          <a:blip r:embed="rId2"/>
          <a:stretch/>
        </p:blipFill>
        <p:spPr>
          <a:xfrm>
            <a:off x="3505320" y="3581280"/>
            <a:ext cx="4873680" cy="274320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5105520" y="9144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merican Red Cross , Alabama National Guard, and many other agencies help the victims of the storms.   People need food, water, shelter, and medical services.  Assistances comes from all over the state and nation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533520" y="43434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Volunteers clean up debris and help rebuild our communitie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advTm="5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birmingham bell-cosby.jpg"/>
          <p:cNvPicPr/>
          <p:nvPr/>
        </p:nvPicPr>
        <p:blipFill>
          <a:blip r:embed="rId1"/>
          <a:stretch/>
        </p:blipFill>
        <p:spPr>
          <a:xfrm>
            <a:off x="838080" y="1295280"/>
            <a:ext cx="5981760" cy="41148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7086600" y="914400"/>
            <a:ext cx="1523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ayor William Bell tours the storm damage  in Birmingham with comedian, Bill Cosby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al obama.jpg"/>
          <p:cNvPicPr/>
          <p:nvPr/>
        </p:nvPicPr>
        <p:blipFill>
          <a:blip r:embed="rId1"/>
          <a:stretch/>
        </p:blipFill>
        <p:spPr>
          <a:xfrm>
            <a:off x="380880" y="609480"/>
            <a:ext cx="5715000" cy="3495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al april obamalabama_blog_main_horizontal.jpg"/>
          <p:cNvPicPr/>
          <p:nvPr/>
        </p:nvPicPr>
        <p:blipFill>
          <a:blip r:embed="rId2"/>
          <a:stretch/>
        </p:blipFill>
        <p:spPr>
          <a:xfrm>
            <a:off x="3962520" y="3276720"/>
            <a:ext cx="4572000" cy="30099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838080" y="46483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resident Barak Obama visits Alabama.  Declares area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Federal State of Emergency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advTm="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alRebuildAlabamaLogo.jpg"/>
          <p:cNvPicPr/>
          <p:nvPr/>
        </p:nvPicPr>
        <p:blipFill>
          <a:blip r:embed="rId1"/>
          <a:stretch/>
        </p:blipFill>
        <p:spPr>
          <a:xfrm>
            <a:off x="609480" y="685800"/>
            <a:ext cx="8123400" cy="54100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04:32:21Z</dcterms:created>
  <dc:creator>USER</dc:creator>
  <dc:description/>
  <dc:language>en-US</dc:language>
  <cp:lastModifiedBy>USER</cp:lastModifiedBy>
  <dcterms:modified xsi:type="dcterms:W3CDTF">2012-01-01T05:38:41Z</dcterms:modified>
  <cp:revision>7</cp:revision>
  <dc:subject/>
  <dc:title>Day of Disaster: April 27, 2011</dc:title>
</cp:coreProperties>
</file>